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94E8-BF0F-4408-9B5E-7D1D4248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D035-3996-4AB6-9F7D-36F13F9C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9A8-4B22-4ECD-AC1C-66001B46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7A26-B556-46B3-8D95-41CF1202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2A4-5EE9-4D93-933E-ADA8DACBB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191A-978B-4424-9C28-CB2C3BA10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70F-ABE8-4D54-9133-3000BA64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3F6-EE81-49FC-8A78-CA5A27EB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B76-717D-443B-8A60-7FC54D78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376-1322-45B6-AF2A-92680EC8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99EA-0AA8-453F-8C48-0E6141DC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099A-4C81-4DB5-998C-D1A88EB0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3A1C-BB11-493C-B899-BEEC04AE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889C-4B72-4C4C-ADA5-22EC7195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CA4C-60B7-4E9E-981C-E116705B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69F0-7F21-458E-A6ED-C2AD8D3D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F903-0CA2-4D7B-87AD-97C29B5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A9-D3D0-4EC0-88C7-F521866C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E57D-0524-48FA-8731-9B758A3A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B421-7E43-4FC8-8EF5-8F2D493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8577-4596-420C-BC24-59CA2D7E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307-FFEE-4374-87A7-F90C7F04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B951-6E21-49E8-9EAC-58F59030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E34-D560-46D0-9C31-C16D571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510-4807-4273-823A-84DB1514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247-083F-433D-80FD-B7AC190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40A-00CC-4C09-B2E5-E142DA3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C2A-D996-4A95-87F3-037AD4D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88E-766A-4A45-A696-AD2E944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8CA-7DA5-4320-98BF-FB55A4E7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133C-4FB6-4F86-9830-469445523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38A9-EDFF-4497-A421-5F2E1514BD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enlancour@charter.ne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3200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011 MICROBE MISSION(B/C)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11-4-20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62160" y="4647960"/>
            <a:ext cx="4800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SUPER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Rules Committee Chairman – Life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arenlancour@charter.net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SO LOGO"/>
          <p:cNvPicPr/>
          <p:nvPr/>
        </p:nvPicPr>
        <p:blipFill>
          <a:blip r:embed="rId2"/>
          <a:stretch/>
        </p:blipFill>
        <p:spPr>
          <a:xfrm>
            <a:off x="2514600" y="914400"/>
            <a:ext cx="38862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llular vs. Acellular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82880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use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do not have cellular components, nor do they grow or metabolize organic materials.  They generally consist of a piece of nucleic acid encased in protein which must use the cellular components of a living cell to reprodu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ion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teinaceous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fectious particles) are infectious agents composed primarily of protein which induce the existing polypeptides in host cells to take on its for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teri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chae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karyotic cel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whil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alga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ungi,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protozoa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av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eukaryotic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karyotic vs. Eukaryotic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single cell with nuclear material but no nuclear membrane or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u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most cells – with organized nucleus and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elltypes1"/>
          <p:cNvPicPr/>
          <p:nvPr/>
        </p:nvPicPr>
        <p:blipFill>
          <a:blip r:embed="rId1"/>
          <a:stretch/>
        </p:blipFill>
        <p:spPr>
          <a:xfrm>
            <a:off x="5621400" y="217008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imal Cell</a:t>
            </a:r>
            <a:r>
              <a:rPr b="0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cell1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Cell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pecial Featur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ell wall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protection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hloropla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- for photo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arge central vacuol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 storage and increase surface are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lantCelldiagr"/>
          <p:cNvPicPr/>
          <p:nvPr/>
        </p:nvPicPr>
        <p:blipFill>
          <a:blip r:embed="rId2"/>
          <a:stretch/>
        </p:blipFill>
        <p:spPr>
          <a:xfrm>
            <a:off x="4724280" y="2057400"/>
            <a:ext cx="3971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rganelles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Microbial Origi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2209680"/>
            <a:ext cx="895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tochondria and Chloroplast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have DNA similar to that of a Prokaryotic cell and can reproduce independent of the rest of the Eukaryotic c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t is believed that both chloroplasts and mitochondria were one independent Prokaryotes who took up residence in the Eukaryotic cell and have developed a special symbiotic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ICROBIAL GROWTH CUR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C:\Users\Karen Lancour\Pictures\My Pictures\SO Event Diagrams\Microbe Mission\General\growthcurve.jpg"/>
          <p:cNvPicPr/>
          <p:nvPr/>
        </p:nvPicPr>
        <p:blipFill>
          <a:blip r:embed="rId1"/>
          <a:stretch/>
        </p:blipFill>
        <p:spPr>
          <a:xfrm>
            <a:off x="330120" y="1963800"/>
            <a:ext cx="85168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Only one cell – a prokaryotic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Live in all environments – even above boiling point and below freezing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Basically three shapes – spherical , rod , and spiral or helical (spirullum)  Exist as individuals or cluster together to form pairs, chains, squares, or other group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form spo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photoautotrophic -  make their own food as plants and give off oxygen –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Cyano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lso aerobic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Purple and green 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naerob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chemoautotrophic -  synthesize their own food using energy from chemical reactions – important for recycling in nitrogen and sulfur cyc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have flagella -  rotates like a tiny outboard motor, oth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ecrete a slime layer and move over surfaces like sl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Composite Bacterial Cell"/>
          <p:cNvPicPr/>
          <p:nvPr/>
        </p:nvPicPr>
        <p:blipFill>
          <a:blip r:embed="rId1"/>
          <a:stretch/>
        </p:blipFill>
        <p:spPr>
          <a:xfrm>
            <a:off x="4952880" y="27000"/>
            <a:ext cx="3810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SHAP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360px-Bacterial_morphology_diagram_svg.png"/>
          <p:cNvPicPr/>
          <p:nvPr/>
        </p:nvPicPr>
        <p:blipFill>
          <a:blip r:embed="rId1"/>
          <a:stretch/>
        </p:blipFill>
        <p:spPr>
          <a:xfrm>
            <a:off x="1981080" y="1843200"/>
            <a:ext cx="522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259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RAM + VS. GRAM – BACTERIA</a:t>
            </a:r>
            <a:r>
              <a:rPr b="1" lang="en-US" sz="28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520" y="2666520"/>
            <a:ext cx="857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posi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purple under Gram s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ck bilayer wall of the polymer peptidoglyca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nega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n layer of this polymer and an additional lipopolysaccharide outer layer, LP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ften endotoxic  - capable of initiating inflammation and cell-mediated immune respon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e.g.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almon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hig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and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Escherichi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2" descr="Gram Positive and Gram Negative CW"/>
          <p:cNvPicPr/>
          <p:nvPr/>
        </p:nvPicPr>
        <p:blipFill>
          <a:blip r:embed="rId1"/>
          <a:stretch/>
        </p:blipFill>
        <p:spPr>
          <a:xfrm>
            <a:off x="5715000" y="228600"/>
            <a:ext cx="2960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335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cha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Content Placeholder 3" descr="Archaea.bmp"/>
          <p:cNvPicPr/>
          <p:nvPr/>
        </p:nvPicPr>
        <p:blipFill>
          <a:blip r:embed="rId1"/>
          <a:stretch/>
        </p:blipFill>
        <p:spPr>
          <a:xfrm>
            <a:off x="685800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imilar to bacteria – prokaryo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ell walls lack </a:t>
            </a:r>
            <a:r>
              <a:rPr b="1" lang="en-US" sz="2800" spc="-1" strike="noStrike">
                <a:solidFill>
                  <a:srgbClr val="e62d1a"/>
                </a:solidFill>
                <a:latin typeface="Tahoma"/>
              </a:rPr>
              <a:t>peptidoglycan + other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rigin very old - during formation of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Extremely tolerant to heat, acid, and toxic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ound in extreme habitats in anaerobic environments to produce methane, high salt concentrations or hot acid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volved in carbon &amp; nitrogen cycles, assist in digestion, &amp; can be used in sewage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is presentation was prepared using draft rules.  There may be some changes in the final copy of the rules.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4640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lgal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(ALGAE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072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re Eukaryo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und in fresh and salt water enviro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live on rocks, trees, and in soils with enough moi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carry on photosynthesis – produce large amount of oxy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Diatoms, </a:t>
            </a:r>
            <a:r>
              <a:rPr b="1" i="1" lang="en-US" sz="3200" spc="-1" strike="noStrike">
                <a:solidFill>
                  <a:srgbClr val="e62d1a"/>
                </a:solidFill>
                <a:latin typeface="Tahoma"/>
              </a:rPr>
              <a:t>Clamydomonas, Volvox, Spirogy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Grouped_Diatoms.jpg"/>
          <p:cNvPicPr/>
          <p:nvPr/>
        </p:nvPicPr>
        <p:blipFill>
          <a:blip r:embed="rId1"/>
          <a:stretch/>
        </p:blipFill>
        <p:spPr>
          <a:xfrm>
            <a:off x="6553080" y="457200"/>
            <a:ext cx="1963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nimal-like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    (PROTOZO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rotozoa means “little animal” – act like tiny animals – Eukaryo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unt other microbes for f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ainly feed on bacteria, also other protozoa and some alg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igest food in digestive 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iliates, Amoebaes, Flagellates  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aramecium, Amoeba,  Eugle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ost are not harmful – a few are harm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ertain protozoa can caus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dysentery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Amoeba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24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33447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981080"/>
            <a:ext cx="857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ellular level, more like animals than plants – Eukaryoti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an’t synthesize their own foo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ingle celled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ast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or multicellular clusters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lds &amp; mushro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Multicellular ones  form filament like strands –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ph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Grow best in slightly acidic environment – can grow in low moist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Live in soil, on plants &amp; animals, in fresh &amp; salt wa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ne teaspoon of topsoil has about 120,000 fung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ker’s yeast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for bread and brewing, some are used for antibiotics, others serve as decompos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ome cause disease in humans, animals and plants – ruin ¼ to ½ of fruits &amp; vegetables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" descr="Yeast - SEM.gif"/>
          <p:cNvPicPr/>
          <p:nvPr/>
        </p:nvPicPr>
        <p:blipFill>
          <a:blip r:embed="rId1"/>
          <a:stretch/>
        </p:blipFill>
        <p:spPr>
          <a:xfrm>
            <a:off x="6705720" y="0"/>
            <a:ext cx="19476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cellu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ists of a piece of nucleic acid (DNA or RNA) encased in protein and in some cases a membrane-like envel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y come in man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ound anywhere there are cells to inf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Exist to reproduce – must take over a suitable host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Uses the cell machinery of the host cell to reprodu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virus.gif"/>
          <p:cNvPicPr/>
          <p:nvPr/>
        </p:nvPicPr>
        <p:blipFill>
          <a:blip r:embed="rId1"/>
          <a:stretch/>
        </p:blipFill>
        <p:spPr>
          <a:xfrm>
            <a:off x="6781680" y="533520"/>
            <a:ext cx="165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oteinaceous infectious particles, associated with a number of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haracterized by loss of motor control, dementia, paralysis, wasting and eventually de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ad Cow Diseas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cat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Creutzfeld-Jacob disease (CJD)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NEFICIAL VS HARMFUL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828440"/>
            <a:ext cx="872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ver 99% contribute to the quality of human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Live in every environment on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ecologic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biogeochemical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uman digestion depends upon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to the food industry and  the productions of many product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elp with wastewater  and oil spill clean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mall minority caus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13840"/>
            <a:ext cx="71150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duc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21337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lk into yogurt, buttermilk, sour cream, 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id in production of chocolate, bread products, wine, beer,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ckling process to make pickles from cucumbers and sauerkraut from cab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ermentation Products and their 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57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Carbon dioxide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bread ma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using baker’s yeas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Alcohol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wine making and brewing  using yeas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Lactic Acid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lactic acid bacteria ferment milk into products as yogurt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Spoilage and Food Decomposi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crobes play a key role – bacteria and fungi – in food spoilage and decom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any types can live at low temperatures as mold on food in the refrig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od preservation techniques as salt and  high acid affect micro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DUSTRIAL US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(fungi and bacteria) are used to make antibio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lgae are being used to make petroleu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Yeast and bacteria are used in producing medici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Ec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Major producers in aquatic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Decomposers – bacteria and fungi – in many eco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Key role in Biogeochemical cycles to recycle carbon, nitrogen, carbon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Natural pest killers in gardens and on cr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eakdown oil from oil sp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erve as natural wate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an cause some ecological problems as red tide and algal blo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astewater Microbiolog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play a key role in water and waste treatment fac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re involved in natural waterway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Involved in maintaining septic tank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liform bacteria as E. coli can contaminate water making it unsaf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ere are many agents of infectious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icrobes acting as agents are prions, viruses, bacteria, fungi, protozoa, 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xamples of common diseases for each to follow 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st of 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e sure to check th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O National webs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for the final 2011 L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f Diseas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8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ononucle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encepha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pneum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West Nile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Yellow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icken Pox &amp; Shi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ommon Col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gue Fe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bola Hemorrhagic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Her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eas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47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Meningiti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Pneumo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otu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tal Caries (tooth dec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Gonorrh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egionnaire's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ym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1676160"/>
            <a:ext cx="404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rtussis (whooping c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ocky Mountain Spotted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oxic Shock Syndr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yp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Athlete’s foo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istoplasmo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Ringwor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hrush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TOZOAN/ALGAL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072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laria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Paralytic Shellfish Poisoning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Estuary Associated Syndrom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 DISEAS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22093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d Cow Disea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ational Tourna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bd6c"/>
                </a:solidFill>
                <a:latin typeface="Tahoma"/>
              </a:rPr>
              <a:t>Added Diseases Top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nt Dis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mportant Genera Related to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AINING MATE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Power Poi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content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ample Tourname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sample problems with ke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vent Supervisor Guide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event prep tips, set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eeds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ternet Resources &amp; Training Materia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under Ev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 Mission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ASITIC WOR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ook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Pin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Schistosomia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ape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richinosi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DISEASE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by Microb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Dutch Elm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Ergotis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Potato B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Crown Gall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ORTANT GENE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Wolbachi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Batrachochytriu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ICROBE MISSION(B/C)</a:t>
            </a:r>
            <a:r>
              <a:rPr b="1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Description 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-oriented competition to answer questions, solve problems and analyze data pertaining to various microb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–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 practical in station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vent Parameters –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e sure to check the rules for resources allowed, type of goggles needed.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 Mission and Other SO Even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23619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ease Detectiv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2011 topic is Food Borne Illness (many are microbial caus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play key role in ecology as with biogeochemical cy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ynamic Plane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are involved in every part of our planet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905120"/>
            <a:ext cx="895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term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is short for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organism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which means small organism – observed with a microsc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Over 99% of microbe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ribute to the quality of human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minority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use disease – in humans by sheer numbers or producing powerful tox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ajor group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f microbes are bacteria, Archaea, algae, fungi, protozoa &amp; vir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rms of number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microbes represent most of the diversity of life on Earth and are found in every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011 Microscope Re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 special training handout cover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Relative Size of Micro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Types of Microscopes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– their uses, advantages and disadvan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arts of a Light Microscope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nd their function </a:t>
            </a: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rinciples of Microscop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LATIVE SIZE OF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5" descr="C:\Users\Karen Lancour\Pictures\My Pictures\SO Event Diagrams\Microbe Mission\Cell Types\310px-Relative_scale_svg.png"/>
          <p:cNvPicPr/>
          <p:nvPr/>
        </p:nvPicPr>
        <p:blipFill>
          <a:blip r:embed="rId1"/>
          <a:stretch/>
        </p:blipFill>
        <p:spPr>
          <a:xfrm>
            <a:off x="990720" y="2017800"/>
            <a:ext cx="6553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8:36:06Z</dcterms:created>
  <dc:creator>Karen Lancour</dc:creator>
  <dc:description/>
  <dc:language>en-US</dc:language>
  <cp:lastModifiedBy>Karen Lancour</cp:lastModifiedBy>
  <dcterms:modified xsi:type="dcterms:W3CDTF">2010-11-04T19:55:26Z</dcterms:modified>
  <cp:revision>134</cp:revision>
  <dc:subject/>
  <dc:title>BioProcess Lab</dc:title>
</cp:coreProperties>
</file>